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4686-11BD-494F-A4B3-71A4743BA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56B1-194B-4FC5-91E5-A46A4ABFF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2CA0-D920-4386-8F42-8A62F1387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92F3-B742-4F81-91F1-D4B19DC19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CC78-B408-496D-9850-C7103BB14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32BE-BAAB-4D0B-83E0-B264E5D04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E0DD-57DE-4321-8C02-0E788FD77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7A53-0ACF-440B-B1A2-2BA886352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E909-B9D1-4BA4-8B11-50B21BB38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E918-ED49-467D-8D13-2E0831E5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E356-8AD9-4F9B-8CDD-CB74E608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CD24-49FB-4BFE-9DED-0855E355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4390-BB04-4B78-BCBB-6D2430FE61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thefloweringearth0@gmail.co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еобразование целого выражения в многочле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580000" y="476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апреля 202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5229360"/>
            <a:ext cx="7761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Урок алгебры в дистанционной форме. 7 кла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11280" y="836640"/>
            <a:ext cx="792144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Целыми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выражениям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 называют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числ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еременные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а также всевозможные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выражения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составленные из них при помощи действий сложения, вычитания и умножения (произведение одинаковых множителей может быть записано и в виде степени с натуральным показателем), которые также могут содержать скобки и деление на отличное от нуля числ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43480" y="1360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11280" y="4437000"/>
            <a:ext cx="7589880" cy="18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27100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280" y="511200"/>
            <a:ext cx="874872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476000" y="620640"/>
            <a:ext cx="727236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полнить решение в тетра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16000" y="1773360"/>
            <a:ext cx="7132680" cy="29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00000" y="1628640"/>
            <a:ext cx="727236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ать §14, раздел 37. Преобразование целого выражения в многочлен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ать № 919, 921, прислать скриншо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8000" y="3789360"/>
            <a:ext cx="889308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341000"/>
            <a:ext cx="822960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Следующее занятие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07.04.2020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00000" y="4437000"/>
            <a:ext cx="7417080" cy="15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hefloweringearth0@gmail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й адрес  электронной поч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30T15:26:07Z</dcterms:created>
  <dc:creator>Севастьянова Гузель Фатыховна</dc:creator>
  <dc:description/>
  <dc:language>en-US</dc:language>
  <cp:lastModifiedBy>Севастьянова Гузель Фатыховна</cp:lastModifiedBy>
  <dcterms:modified xsi:type="dcterms:W3CDTF">2020-04-05T18:43:20Z</dcterms:modified>
  <cp:revision>28</cp:revision>
  <dc:subject/>
  <dc:title>Слайд 1</dc:title>
</cp:coreProperties>
</file>